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112A-F028-4859-AF86-5B35C7586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BBC1-3026-4316-8B83-8078C372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212F8D-C90B-483D-B372-2EF6E2A40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23D65F-3EAA-421C-9451-5E0A5F36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5BA4E2-0528-4612-9951-E757E7F2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230D84-83D8-493C-A1F6-84AE0D26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6F5F63-1D7A-49BC-A9DD-A3C14EF9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56A18E-793C-42DB-B358-B03F4D0D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3BDAC3-A2F1-414A-872B-2ABD02A0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3F9054-993E-439E-BE21-52E62593B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41C993-6458-4F8F-AAFD-3725AA4FF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603063-8203-4CCE-ADA4-B279BF37F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0C42-3E97-45BB-ACDD-A7C1BA32E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7A3A97-FC8E-4DF1-B49F-2B3F77D7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892775-E882-4569-A972-6BE5B57A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D51145-7568-4A43-B4EA-016BB7F7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BC58C4-8F5E-4945-861C-0F6C17B9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BA6CCD-04BC-43A9-B77F-887C53C7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340718-9354-4EDE-B9D6-5DCD45CF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E5907B-803E-4869-97D5-0AED6776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13536B-4F04-4556-BEBE-E3B6239A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0F77FA-3CB8-4DAF-B599-A9CD46AD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36D722-4F5F-4374-842C-276763230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F2F6-89C4-44F7-82E6-1717EC188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207B9F-D0F7-4999-A6FC-9349EDC1D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88A0E7-784B-4B4A-AF88-1B3C26E60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84C9DD-A039-48C1-9541-818817DF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038B8E-3410-4A23-9376-0193D656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DFE08C-B5F5-43C3-B7DE-17F15317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8BEC5C-FD97-4297-98EC-734FDD90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DC1F9-8291-461E-814F-7C1E8261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21960-6968-4172-A61E-E46304B2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73A6C3-75D5-463F-9EEF-CC39639B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3896E8-9F38-4111-A3E7-63B15A65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8EF6-76EA-4FDF-8CAF-678CD2EFE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215E87-5FCA-4324-B507-0A4FF1C7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7D7C04-DD59-49BA-8521-9B894E84D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50C7CD-4C65-4C92-BDAE-24906FADB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4FC98E-B68E-47AD-8BC0-0BD2C8762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47A766-9143-45E5-89F2-241AF769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EB70F1-5DF5-4F90-9C94-F89FE327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4954C1-AC5A-42B8-93D6-49D6A012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24E116-2F32-4169-9519-674D05DD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17AB74-2C36-40DB-A823-9903A3D3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20DA01-3BF2-41B5-BC1E-5F3DD140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7F913-9906-4B7A-AFDC-460FDE3F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006F2B-0E2D-4A07-8AAF-8AFFADD5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CE8E5C-CAFA-4117-AC27-C3946552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8F0DAE-192A-414D-9B06-764A9465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EB62AA-1E75-4C6F-AADA-B181020B6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429528-B0F5-4A99-AAF8-249682A6B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E5D87-61B3-4073-9E1E-C2BCC867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DED99-BD1B-4FAE-8246-D69BDD440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CC4D2-F296-44F6-A6C3-27EC7A17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FA591-19AF-4F5D-B043-ED357E6D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964C-E57D-4DA8-9B5C-73950AD1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403A-4DCF-49FD-84B2-927C32F5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8C3B3-FA0A-4E0C-9570-F6436558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BB8CB-E97A-4828-A4C0-33FB67CA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325FD-5980-4B37-90BC-C33CC4CE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0505E-8C4B-474A-8294-6829C8CB1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54BC0-7414-4FEA-8729-6356E07EC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5505C-F914-42BD-89B3-031A6506D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10213-168B-487A-8D96-CB243445C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A8109-D972-4C9C-895D-887FCBA6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6C844-72AD-4712-B034-62A8F3E6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6F2D4-15AC-4BD5-88A1-284870C4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2AE5-2159-4559-BE0C-5FE2CDB5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7A0D8-5540-4FA7-AEEA-919235F5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74E6D-C0D8-48DC-83D1-9871E288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DFC00-B5F8-48A7-9100-64E7A46F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B61AA-965B-45DA-A321-09855F00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A3B3D-B554-4269-83CE-79B0C735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8743A-D3AA-45E0-A5BA-E74251B91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EF884-A8E6-4897-83B7-5C1570B0C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0EEB3-DB6C-4BB0-8EAF-F95AF80CE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1B660-366E-44F3-A50C-5750579F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DD5E7-5C1C-424B-89B7-248DF71F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FCA3-8814-4DCC-BC92-FE2EF50A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4102A-BFCF-48C9-B38E-052AE14B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146BD-6733-42F8-8A7B-1D28A886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65481-86B7-4B63-A017-9AE7B096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E5683-C31C-40FA-921C-61E3BD92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DCE3C-0BC2-4A56-9D5A-4EDFF156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6B309-A2A4-45AA-B94F-226C3CD6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C30A2-3909-45FC-A3DA-C0A82916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E7061-DCCF-41D4-AFD9-500288593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CDF14-6CDC-4BB2-92B4-55E45228C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47FD7-FAF1-409C-9B98-05E69EB8E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8427-5710-48B5-A156-EE3DB00B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A66DE-CC0C-4F1E-8A3D-7EDE7136D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B2AA5-3001-42A4-A161-265A0441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95B97-19C8-436A-B426-012D79AE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E0C59-F784-4152-87C6-172D4A4F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DFDDB-7BF4-4FCC-AFEA-40DB24D4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FD20E-F292-48CC-94E4-89AF4BAD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5494D-735E-4482-A0E0-762064FD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660E3-0D90-4344-A899-F3C307A8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E74C5-3094-4723-8267-1A8FF294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7FB91-7627-48C9-B4C6-EC9109512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A4EB-77DC-4240-A798-E4DCB269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F8487-604F-4654-A48D-6705C6D46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81D79-7BCD-418D-A7F9-9E8978C01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2A31D-BAAD-4825-B3C0-D47704A7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CFC0F-7E1D-4678-959A-356B3149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6D5DB-0465-490F-AE7D-1B2B935B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72B20-8DA7-4095-8148-15BFAC88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2F134-3098-48F7-88FD-9E1BDC86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5D8FE-BFDF-4BC8-B844-8D87924B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62B48-4424-4423-8C1F-4F360FD4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74258-A223-4236-928A-3FB08624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0FF4-E83D-4174-B87D-EAD760C4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27DC5-BC3C-4506-8BFE-367DF6DD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83AC7-DDAF-4CBC-A645-4DBDCBE2F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2364C-BB3E-44BD-B39A-AC92EA37E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248E4-4962-4ABC-9F25-D13E89D35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B50F1-C90E-4F45-83B4-646D4C20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12066-93A2-4203-BDF6-3F4E191C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2683C-041F-49B8-90CA-765ECD9D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45F68-98AC-4567-AB21-3F07A128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AD018-215D-48FC-8AAB-C99C7BE7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B0037-B71A-4746-81C1-EEE7717E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3886-5AB7-4812-9B8B-0601E568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47854-E256-4824-9C0A-88DD1904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B54EA-0E89-4AF6-96F6-CAAD519F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0B2EB-1F22-4F8B-8863-2FCFB17D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DB866-BF28-4D75-BBA1-1783F5579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5EC51-8E76-47C0-B65A-E724E9CF9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56A82-5E72-4FFF-BAA9-A8E70FA42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A77E3-F42A-4221-A997-96417B9A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1C8DA-F949-4944-B4A9-8D5FBB42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626B6-D64B-4D99-8756-D87114BC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3B8E3-71CA-4BE7-AD4D-3A5DDD951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7F6A-4E2A-472B-8B0D-F430A516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C8BBE-7669-44D7-B9F6-1BB3AB66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C04D5-15E7-4C92-AFF9-99161759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2E642-E6E9-4F79-AC83-4CA6EC51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4084C-3DA2-4FFD-ACEB-ED28740B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FE837-A96C-4784-AD16-1A6EFA4C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F6730-13EB-48AE-9618-6E1F736C5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20EBB-ECC9-4F73-B76D-B37B411B1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1744FB-DD60-4EC3-9830-CD2697355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F180F0-76CC-4E41-8F1C-72CFC6E8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70EB23-8757-4149-9495-AEFF40D8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E096-6D7D-4283-9B49-0B4DAF55749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7CB9-C6EA-4EE4-8286-E8848A79C9E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55E3-A1B6-4A5C-B140-8F769C1EED9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225C-B18F-4713-AE3B-3068041A610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B507-1DBB-4FB2-9D21-200B654736B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D643-D3FE-443C-8167-D3C3F281F3B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1ECF-55DE-41D5-8146-DD1B95B4493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35F4-753C-4399-9ACB-08B6B332D18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961B-F807-4BB2-AF31-CC44A0B368D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BCE6-C547-4394-9CF9-DB2B0308556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22E3-B6B1-48C3-AD82-71A0670FAFA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60D1-FA93-4E71-A9E4-B6A5F89212B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44 Choď, nádhernú zves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lása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oď, nádhernú zvesť hlás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krásnu správu zanes v dia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narodil sa, jas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nám prišiel Kristus, Krá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 pokojná noc, tich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všetko vôkol sp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u z neba žiara jasn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em náhle obklop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oď, nádhernú zvesť hlás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krásnu správu zanes v dia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narodil sa, jas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nám prišiel Kristus, Krá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nie anjelský spev z neb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počesť Dieťať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ľudstvu daroval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á Láska presvät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oď, nádhernú zvesť hlás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krásnu správu zanes v dia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narodil sa, jas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nám prišiel Kristus, Krá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yn Boží k nám raz prišie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svet sa narodi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 naše hriechy trpe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život polož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oď, nádhernú zvesť hlás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krásnu správu zanes v dia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narodil sa, jas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nám prišiel Kristus, Kráľ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4-01-04T10:31:05Z</dcterms:modified>
  <cp:revision>32</cp:revision>
  <dc:subject/>
  <dc:title>Je veľký náš Pán, on slávy je Kráľ Nech do všetkých strán  spev vrúcnych znie chvál.</dc:title>
</cp:coreProperties>
</file>